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153-9B98-48D5-BD7C-EBA6E7E1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371F-9821-4D59-B02E-D3B6DB99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2DA-D3F7-4FAE-8A85-768D26BA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AE9-0C34-419E-BD43-C2BB4E2C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B8B-DFDB-4DB2-84BB-C9E4CE61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9A5-CD9B-4331-8CF0-326F3625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69B5-29B3-4D4B-B94D-B7F2592D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103-1E56-4D87-B35C-BA74BCD7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0D58-4424-4018-B1A2-0D36E852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7F49-08D2-4FEA-9E95-766E6555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E6C-04C6-40EC-902C-45F7C4E5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679-56B4-43C2-816C-672EF11D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EF1C-35E1-41BF-899F-547F7F6CD6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lasma Course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1341360"/>
          <a:ext cx="8229600" cy="4751640"/>
        </p:xfrm>
        <a:graphic>
          <a:graphicData uri="http://schemas.openxmlformats.org/drawingml/2006/table">
            <a:tbl>
              <a:tblPr/>
              <a:tblGrid>
                <a:gridCol w="1341360"/>
                <a:gridCol w="1341360"/>
                <a:gridCol w="1339920"/>
                <a:gridCol w="1525680"/>
                <a:gridCol w="1341360"/>
                <a:gridCol w="1339920"/>
              </a:tblGrid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17, O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（</a:t>
                      </a:r>
                      <a:r>
                        <a:rPr b="1" lang="zh-CN" sz="12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Monday</a:t>
                      </a:r>
                      <a:r>
                        <a:rPr b="1" lang="zh-CN" sz="12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（周一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18, Oct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（</a:t>
                      </a:r>
                      <a:r>
                        <a:rPr b="1" lang="zh-CN" sz="12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Tuesday</a:t>
                      </a:r>
                      <a:r>
                        <a:rPr b="1" lang="zh-CN" sz="12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（周二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19, O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（</a:t>
                      </a:r>
                      <a:r>
                        <a:rPr b="1" lang="zh-CN" sz="12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Wednesday</a:t>
                      </a:r>
                      <a:r>
                        <a:rPr b="1" lang="zh-CN" sz="12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（周三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20, O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（</a:t>
                      </a:r>
                      <a:r>
                        <a:rPr b="1" lang="zh-CN" sz="12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Thursday</a:t>
                      </a:r>
                      <a:r>
                        <a:rPr b="1" lang="zh-CN" sz="12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（周四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21, O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(Frid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（周五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上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r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下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fterno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:45-18: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:45-18: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:45-18: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:00-16: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ve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:30-21: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:30-21: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24 O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Monday</a:t>
                      </a: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（周一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25 O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Tuesday</a:t>
                      </a: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（周二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26 O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（</a:t>
                      </a:r>
                      <a:r>
                        <a:rPr b="1" lang="zh-CN" sz="12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Wednesday</a:t>
                      </a:r>
                      <a:r>
                        <a:rPr b="1" lang="zh-CN" sz="12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（周三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27, O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Thursday</a:t>
                      </a: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（周四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28, O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(Frida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（周五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上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r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:30-11: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下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fterno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:45-18: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:45-18: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:00-16: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ve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:30-21: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95280" y="616572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mark*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07:22:21Z</dcterms:created>
  <dc:creator>微软用户</dc:creator>
  <dc:description/>
  <dc:language>en-US</dc:language>
  <cp:lastModifiedBy>微软用户</cp:lastModifiedBy>
  <dcterms:modified xsi:type="dcterms:W3CDTF">2011-10-14T07:22:30Z</dcterms:modified>
  <cp:revision>1</cp:revision>
  <dc:subject/>
  <dc:title>The Plasma Course Schedule</dc:title>
</cp:coreProperties>
</file>